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8CCC-146E-4813-A60F-60BF66247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=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there are two chlorophylls so plant absorbs more colors/ligh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n to just Chlorophylls a &amp; b, carotenoids, and xanthophy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8C4-3965-4D02-B7C9-6F873B1E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3EE-DBFB-414B-AA8A-CDD1B5C2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A15-B38F-4149-B8CE-3329BC6C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D1F-C012-4036-AF20-2AD18AC2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E00C-F572-4F9C-AB5F-BD35CA25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4D1A-42A2-4547-B1B0-F405302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DB14-A63B-43A4-A471-C6FB64B0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AC58-9996-4AE0-95E9-CE370DF6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0B32-9C4D-41BD-ADD4-F1640C8C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16EA-30B4-428F-A16F-5FA61DAD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BCB9-C445-413F-932C-253D2AF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089-D058-4158-8CAB-44CB2FFD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9940-3584-424E-B0C8-24285909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6D46-2600-4C95-9765-BF1D76D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E067-92B6-42DD-8C77-8D8BB41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DCDC-CCC6-4AE8-B246-E0BA5CDB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D438-A2DE-4D4A-9BF9-2D05F2F8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839-3FE9-4149-ACD0-2D2814E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655-B87F-4605-A85D-87038D7F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492-98EA-4220-A732-3CA1FF23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53F-FDFC-484D-A144-5F0B9B02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FEF-E9D1-40AC-802B-1ACDE224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70B-A849-407C-9F56-CCB91326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E86-5E9D-4047-9027-42A48B4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D7B0-0311-45D4-9EF5-B6A44DF2A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373E-2409-4E09-83CB-76FCB2348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/%5CMedia%5CPowerPoint_Figures%5Cchapter6%5Canimations%5Cch06_bp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D/%5CMedia%5CPowerPoint_Figures%5Cchapter6%5Canimations%5Clight_wavelength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 Black"/>
              </a:rPr>
              <a:t>Photosynthesis I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, Light and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lorophyl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 pigments in most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570560" cy="293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rot="16200000">
            <a:off x="852480" y="390060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velength absorption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7920" y="578808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velength (nanomet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78360" y="463248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chlorophyll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8720" y="3882960"/>
            <a:ext cx="15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chlorophyll </a:t>
            </a: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606640" y="407664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16000" y="4813200"/>
            <a:ext cx="19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otenoi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all photoautotro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b blue-violet and blue-green that chlorophylls m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red, yellow, orange wavel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otenes - pu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carb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anthophylls - conta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92680" y="4110120"/>
            <a:ext cx="36655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Xanthophyl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, brown, purple, or blue accessory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ycobilins &amp; Anthocyanin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to purple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cobi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in red algae and cyan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cya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many flowers their col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toautotrophs (Plants, some bacteria &amp; many proti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e sunlight energy and use it to carry out photosyn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on source is carbon di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source is sun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erotrophs (as in 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carbon and energy by eating autotrophs or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bon and Energy Sourc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otosynthesis Equ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523880"/>
            <a:ext cx="9144000" cy="255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58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here does the oxygen gas come fr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476440"/>
            <a:ext cx="304560" cy="34308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476440"/>
            <a:ext cx="228600" cy="34308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476440"/>
            <a:ext cx="304920" cy="26676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2476440"/>
            <a:ext cx="152280" cy="26676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610480" y="2476440"/>
            <a:ext cx="228600" cy="26676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2438280"/>
            <a:ext cx="304920" cy="38124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476440"/>
            <a:ext cx="228600" cy="266760"/>
          </a:xfrm>
          <a:prstGeom prst="rect">
            <a:avLst/>
          </a:prstGeom>
          <a:solidFill>
            <a:srgbClr val="ff6699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4197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y the equation by dividing by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+   2 H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CH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+  H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+  </a:t>
            </a:r>
            <a:r>
              <a:rPr b="0" lang="en-US" sz="2800" spc="-1" strike="noStrike">
                <a:solidFill>
                  <a:srgbClr val="ff1116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ff4fd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06800" y="5334120"/>
            <a:ext cx="587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+   2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00552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es the chemistry look lik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C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12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C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6 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+   6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es the oxygen gas come fro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3505320"/>
            <a:ext cx="617040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fy the equation by dividing by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+   2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 + 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 +  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3600" y="5135400"/>
            <a:ext cx="5871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+   2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C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1116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+  O</a:t>
            </a:r>
            <a:r>
              <a:rPr b="1" lang="en-US" sz="2800" spc="-1" strike="noStrike" baseline="-25000">
                <a:solidFill>
                  <a:srgbClr val="ff4fd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00552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00552" presetSubtype="8102492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bas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n plants capture energy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urn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arbon dioxide) into plant sug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xygen) is released in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cess is the basis of nearly all food webs on the plane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xception: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 few types of bacteria can oxidize minerals and make simple sug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2286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lick to view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video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y animation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nlight as an Energy Sour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ynthesis runs on a fraction of the electromagnetic spectrum, or the full range of energy radiating from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omagnetic Spectrum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ma r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r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V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ible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red ra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 w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1240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66688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6" h="21600">
                <a:moveTo>
                  <a:pt x="10271" y="7301"/>
                </a:moveTo>
                <a:lnTo>
                  <a:pt x="11185" y="7301"/>
                </a:lnTo>
                <a:lnTo>
                  <a:pt x="11568" y="7667"/>
                </a:lnTo>
                <a:lnTo>
                  <a:pt x="20777" y="7667"/>
                </a:lnTo>
                <a:lnTo>
                  <a:pt x="21334" y="8224"/>
                </a:lnTo>
                <a:lnTo>
                  <a:pt x="21334" y="8772"/>
                </a:lnTo>
                <a:lnTo>
                  <a:pt x="23179" y="8772"/>
                </a:lnTo>
                <a:lnTo>
                  <a:pt x="23545" y="8224"/>
                </a:lnTo>
                <a:lnTo>
                  <a:pt x="24284" y="8224"/>
                </a:lnTo>
                <a:lnTo>
                  <a:pt x="24284" y="13376"/>
                </a:lnTo>
                <a:lnTo>
                  <a:pt x="23545" y="13376"/>
                </a:lnTo>
                <a:lnTo>
                  <a:pt x="23179" y="12828"/>
                </a:lnTo>
                <a:lnTo>
                  <a:pt x="21334" y="12828"/>
                </a:lnTo>
                <a:lnTo>
                  <a:pt x="21334" y="14107"/>
                </a:lnTo>
                <a:lnTo>
                  <a:pt x="11751" y="14107"/>
                </a:lnTo>
                <a:lnTo>
                  <a:pt x="11751" y="9877"/>
                </a:lnTo>
                <a:lnTo>
                  <a:pt x="11568" y="9877"/>
                </a:lnTo>
                <a:lnTo>
                  <a:pt x="11185" y="10243"/>
                </a:lnTo>
                <a:lnTo>
                  <a:pt x="10271" y="1024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Times New Roman"/>
                <a:hlinkClick r:id="rId1"/>
              </a:rPr>
              <a:t>Click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 to view vide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isible Ligh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lengths humans perceive as different col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t (380 nm)  to red (750 nm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er wavelengths, lowe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46000" y="4419720"/>
            <a:ext cx="74520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ot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ets of light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ype of photon has fixed amount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ns having most energy travel as shortest wavelength (blue-green l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49680" y="3692520"/>
            <a:ext cx="4579920" cy="194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g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67000" y="1904760"/>
            <a:ext cx="6750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-absorbing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b some wavelengths and transmit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 you see are the wavelength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bsorb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-catching part of molecule often has alternating single and doub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bonds contain electrons that are capable of being moved to higher energy levels by absorbing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gment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928800"/>
            <a:ext cx="2797200" cy="54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riety of Pigment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lorophyll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teno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anthophy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cobi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cyan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54:57Z</dcterms:created>
  <dc:creator>Christine Evers</dc:creator>
  <dc:description/>
  <dc:language>en-US</dc:language>
  <cp:lastModifiedBy>Marie Scearce, Ph.D.</cp:lastModifiedBy>
  <dcterms:modified xsi:type="dcterms:W3CDTF">2007-05-19T23:59:06Z</dcterms:modified>
  <cp:revision>139</cp:revision>
  <dc:subject/>
  <dc:title>You Light Up My Life</dc:title>
</cp:coreProperties>
</file>